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2.png" ContentType="image/png"/>
  <Override PartName="/ppt/media/image8.png" ContentType="image/png"/>
  <Override PartName="/ppt/media/image14.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40C6-B831-412C-87F3-EAEA90329FC6}"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5918-73F1-4C01-8D8A-4CF91885EF68}"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D060-B94C-4442-84E0-788EB4697289}"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0A35-5F94-4A9A-B0FA-5BE670B87700}"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202E-0718-4DE5-9042-EC1A77F2A689}"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5079-7C37-4E8F-BA75-7D727D5A06C1}"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6B03-9B4E-4AAB-B118-6576CA22C174}"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15E3-635F-40EA-A096-12A0A5342C88}"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4076-4810-4FDA-8030-AFDBF106BE7E}"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AC9D-790B-4561-8607-8848AD10331F}"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4594-7C1A-4210-A41C-021361D554BB}"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C963-A65F-450C-A087-A77AE4C87B08}"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5553-044A-4CDC-BC0F-F655896A0228}"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E156-A142-497B-A6EC-638763269EB2}"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7A0A-FBED-4331-ADC0-B8EEF6BAAD33}"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45C4-6F78-4609-8E48-9628230E50F1}" type="slidenum">
              <a:rPr b="0" lang="en-CA"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B51FD-ABFB-4E2B-8C2F-E18973D94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C154-C4EC-49C9-A987-9C84DAC6E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52D85-E7B3-4B8F-A58A-6DC040299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D4C40-2386-4ADB-9980-E5B6126A9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6D5D6-16B5-4255-9E85-9855789D1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87A51-9117-429F-92DC-B87EB613E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2113B-CA54-471E-95FD-A1510D05D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B0ABC-F62E-49E3-8FA0-207455C6A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9C07C-4B59-4024-9836-6941B7834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BB2F3-EBE6-49D6-B004-3A96D4F30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F1660-A911-4981-8D14-131971A3E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2F8E-3234-4ADD-8E4C-A3FD4A601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F3179-1AD7-4BBC-B8C0-B8E501792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A5010-5218-4895-B178-9EB21932F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6FB71-7CF0-46E3-9737-2CE84752A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596DCE-7336-46CA-8B3C-59F85E71E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76588-5007-40AA-8DD1-3F4A3A53E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83397B-8383-4154-83BA-E2F9C74E87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7D1311-B302-4520-932C-D02DBE3C6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9F49B8-CAAE-47D4-8C74-EE21ECFEA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CEE7A-1172-47A6-87E6-98AE85A6EA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4E6F8-5BF1-467C-9332-97B5A9D1A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EE65B-0CD0-4253-8E13-04E601A2F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D8C8E1-C301-4690-8430-F59B51AB7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41610-FC8D-4CD9-881D-7A8EEC2BB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634EB-EAA0-4D40-B8F0-6FBD7B96E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E0AC3-5382-4A6C-9959-D7DEDC63D4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5F162-6103-455F-8DC5-1942840B9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3703C6-CC7F-4933-9049-211D5DBD10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2B5BA-116F-4091-83DE-D2E278B907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65F967-7051-4A2F-8C0F-FB1FAF31A0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38C85-8E2E-40E3-BD72-2F0492F74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82904-DD7A-4F95-A10A-152518C932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0177-BD0F-4845-B42E-AD7AF24A2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053F7-E711-47B1-9C9C-F5465F0D2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62216-F9EE-497C-AF97-9CC3DD75C1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CF575-8DD8-4C3D-969A-8D22F4506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748E8-E428-4CA6-B0B4-C802AC9321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F7BFB-E5EE-452B-8A00-E9E3B96B5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1E9AD-238E-4169-99BA-F7792CF3F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C2155-D101-4E35-A9E5-FD7D7D671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845C73-BB83-4616-A575-5FF92B8B40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0CB579-290D-4D24-A8CB-F19070FD23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7475BF-0140-4C31-95F9-3EB0ED9F8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CDAB9-0275-48CB-871A-DA2FE555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19BF3-D093-487C-A849-D9B65E3D45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4B4D9-3772-4307-AEBC-BF9DC795E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CBDFA9-FB9C-498D-97C2-33454BE817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2C07F-8EF2-4BB0-B8BC-69B1FF3A3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A5E7D-E205-4620-A9E0-60A695BD9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46AE3-C1F6-4520-9649-A2031F5E54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2F6FE2-7A80-49A3-8813-32417EC19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1CB9FB-3095-4D78-A96A-CEF1A4375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366D5C-87A8-4C7C-9DC0-3E2F73DC44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3512F8-598E-4E93-9552-385FF6BCA0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31636-CD4F-4991-80F3-A9A21809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FB4CAD-748C-4ABE-BE18-ECB69C12E7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146338-97CF-4BD3-85D2-1DA0D1AE43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DA10D4-B90B-4F29-964F-2C4108D8C8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A73401-1901-4491-9ECA-91F99EE58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320C4-6EAD-4B79-B024-10BEEFBD86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4B4188-13FD-4AAC-8BD8-FB500F7906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01FD7-D552-4A7E-BE4A-ECF7BE09E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15514-A660-4877-A632-6C5C715AC1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4AA4B-D825-47AF-8B59-28585E5C4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C636C8-2B71-42ED-8591-737C3E2D5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0D86-C86D-4EE9-B355-C0C51C273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A3A91-5112-4F2D-BBCD-579063DB0A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64E0D3-293F-4114-A144-5ACED280A1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05456-CAAD-49B7-A85A-BA0BC212FE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2F70AA-D1F7-4713-9FA1-F560F5EA4A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69FEC-41D0-4B3C-8C65-F11A29C16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C8587-8C84-472C-A90E-B3D6875677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C49350-E85C-4D0B-ACAC-BAC06D9FBB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7E90A0-67D0-413D-B190-DCCF561E5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D7240-BEC1-4895-AA80-A760D0056D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DE9B4B-4030-4123-807B-431C71962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B6F9-7E5F-4BED-80C9-BA0C87BC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46B9C2-9B32-4928-9095-1669C1C92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D211B-87D7-4176-BA79-9D0D9C289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83914-4FDC-40AB-AB30-ED76BF188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0E505C-CBCC-4C8F-B8B1-87E043522B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A36635-2829-4002-B76C-01015302FB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F34755-9354-4A92-994F-70C9E5C7E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475C51-2992-4BBF-B9BD-0EA8098490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319FE-1440-4EEC-86B9-6F39DE5273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88681-91BF-4A6A-92DB-33462F7FC3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B7543A-4BF9-40E2-B24E-4E3E18AF28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2BE5-5538-4D43-A282-9E9C9323F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7A74CB-1843-4537-AE22-F0697B1757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582A61-21F6-46D7-9B4A-2E3E4600C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EA8669-79C6-456E-B83C-3B8EE9EC5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694A6B-B321-4F16-9B87-646697829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355736-B0C2-4ED3-95B1-5F5497C24E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21D831-1EE1-4BDA-8D5A-B0DD1E1BAE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96A46F-EA96-48F5-83C1-38791619EF6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0E7C-A7DA-4E24-9E71-6DDACBC8560E}"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1E8D-6D64-4AF4-B965-95CC2C459585}" type="slidenum">
              <a:rPr b="0" lang="en-CA"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131D-F203-4B08-8A1A-EAEEC725CB3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077F-A013-4E07-BE9C-614A3566431A}" type="slidenum">
              <a:rPr b="0" lang="en-C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5ECE-ACF4-47D3-8D04-978B7B988CB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A31C-4545-4108-AD02-6E449E9E033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3C112-8FE4-4E6C-92CA-D808A8B34C9C}" type="slidenum">
              <a:rPr b="0" lang="en-CA"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8E84-532B-4665-9CA3-903473CD99F8}" type="slidenum">
              <a:rPr b="0" lang="en-CA"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youtube.com/watch?v=Jjo5AV6_sHU" TargetMode="External"/><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wikipedia.org/" TargetMode="External"/><Relationship Id="rId3" Type="http://schemas.openxmlformats.org/officeDocument/2006/relationships/hyperlink" Target="http://www.greekreligion.org/" TargetMode="External"/><Relationship Id="rId4" Type="http://schemas.openxmlformats.org/officeDocument/2006/relationships/hyperlink" Target="http://www.factsmonk.com/" TargetMode="External"/><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www.youthink.com/quiz_images/full_886822714.jpg"/>
          <p:cNvPicPr/>
          <p:nvPr/>
        </p:nvPicPr>
        <p:blipFill>
          <a:blip r:embed="rId1"/>
          <a:stretch/>
        </p:blipFill>
        <p:spPr>
          <a:xfrm>
            <a:off x="3267000" y="3840120"/>
            <a:ext cx="2610000" cy="2610000"/>
          </a:xfrm>
          <a:prstGeom prst="rect">
            <a:avLst/>
          </a:prstGeom>
          <a:ln w="0">
            <a:noFill/>
          </a:ln>
        </p:spPr>
      </p:pic>
      <p:pic>
        <p:nvPicPr>
          <p:cNvPr id="353" name="Title 1" descr=""/>
          <p:cNvPicPr/>
          <p:nvPr/>
        </p:nvPicPr>
        <p:blipFill>
          <a:blip r:embed="rId2"/>
          <a:stretch/>
        </p:blipFill>
        <p:spPr>
          <a:xfrm>
            <a:off x="536400" y="311040"/>
            <a:ext cx="9174240" cy="1938600"/>
          </a:xfrm>
          <a:prstGeom prst="rect">
            <a:avLst/>
          </a:prstGeom>
          <a:ln w="0">
            <a:noFill/>
          </a:ln>
        </p:spPr>
      </p:pic>
      <p:pic>
        <p:nvPicPr>
          <p:cNvPr id="354" name="Subtitle 2" descr=""/>
          <p:cNvPicPr/>
          <p:nvPr/>
        </p:nvPicPr>
        <p:blipFill>
          <a:blip r:embed="rId3"/>
          <a:stretch/>
        </p:blipFill>
        <p:spPr>
          <a:xfrm>
            <a:off x="536400" y="2139840"/>
            <a:ext cx="84423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5773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88c"/>
                </a:solidFill>
                <a:latin typeface="Arial Black"/>
              </a:rPr>
              <a:t>Oracles could change political systems through their interpretation of the Gods</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88c"/>
                </a:solidFill>
                <a:latin typeface="Arial Black"/>
              </a:rPr>
              <a:t>Governments listened to such religious figures for fear of angering the gods, and there fore  receiving a bad harvest, or even defeat in battle</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88c"/>
                </a:solidFill>
                <a:latin typeface="Arial Black"/>
              </a:rPr>
              <a:t>Certain religious ceremonies such as the Olympics created a international truce and temporary ending to war</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Title 1" descr=""/>
          <p:cNvPicPr/>
          <p:nvPr/>
        </p:nvPicPr>
        <p:blipFill>
          <a:blip r:embed="rId1"/>
          <a:stretch/>
        </p:blipFill>
        <p:spPr>
          <a:xfrm>
            <a:off x="450720" y="262080"/>
            <a:ext cx="8577360" cy="1407960"/>
          </a:xfrm>
          <a:prstGeom prst="rect">
            <a:avLst/>
          </a:prstGeom>
          <a:ln w="0">
            <a:noFill/>
          </a:ln>
        </p:spPr>
      </p:pic>
      <p:sp>
        <p:nvSpPr>
          <p:cNvPr id="37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5698"/>
                </a:solidFill>
                <a:latin typeface="Arial Black"/>
              </a:rPr>
              <a:t>Ancient Greece was most famous in literature for its epic poet, Homer. Homer’s most poems were none other than the Iliad and the Odyssey.</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5698"/>
                </a:solidFill>
                <a:latin typeface="Arial Black"/>
              </a:rPr>
              <a:t>The Iliad was the tale of the more recognized parts during the last year of the Trojan War. This war was started when the Trojans stole Helen, the queen of Sparta. The Iliad goes into detail of the famous Trojan horse, where Greek warriors hid themselves in, and came out during the night and slaughtered all.</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5698"/>
                </a:solidFill>
                <a:latin typeface="Arial Black"/>
              </a:rPr>
              <a:t>The Odyssey is in a way the sequel to the Iliad. It is the tale of Odysseus ten year long journey home after the Trojan War.</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1" descr=""/>
          <p:cNvPicPr/>
          <p:nvPr/>
        </p:nvPicPr>
        <p:blipFill>
          <a:blip r:embed="rId1"/>
          <a:stretch/>
        </p:blipFill>
        <p:spPr>
          <a:xfrm>
            <a:off x="450720" y="122400"/>
            <a:ext cx="8680680" cy="1547640"/>
          </a:xfrm>
          <a:prstGeom prst="rect">
            <a:avLst/>
          </a:prstGeom>
          <a:ln w="0">
            <a:noFill/>
          </a:ln>
        </p:spPr>
      </p:pic>
      <p:sp>
        <p:nvSpPr>
          <p:cNvPr id="375" name=""/>
          <p:cNvSpPr txBox="1"/>
          <p:nvPr/>
        </p:nvSpPr>
        <p:spPr>
          <a:xfrm>
            <a:off x="500040" y="1928880"/>
            <a:ext cx="8229600" cy="4572000"/>
          </a:xfrm>
          <a:prstGeom prst="rect">
            <a:avLst/>
          </a:prstGeom>
          <a:noFill/>
          <a:ln w="0">
            <a:noFill/>
          </a:ln>
        </p:spPr>
        <p:txBody>
          <a:bodyPr lIns="90000" rIns="90000" tIns="46800" bIns="46800" anchor="t">
            <a:normAutofit/>
          </a:bodyPr>
          <a:p>
            <a:pPr marL="447840" indent="-382680">
              <a:lnSpc>
                <a:spcPct val="100000"/>
              </a:lnSpc>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698"/>
                </a:solidFill>
                <a:latin typeface="Arial Black"/>
              </a:rPr>
              <a:t>The following video is of the seven wonders of ancient Greece. </a:t>
            </a:r>
            <a:endParaRPr b="0" lang="en-US" sz="4400" spc="-1" strike="noStrike">
              <a:solidFill>
                <a:srgbClr val="ffffff"/>
              </a:solidFill>
              <a:latin typeface="Century Gothic"/>
            </a:endParaRPr>
          </a:p>
          <a:p>
            <a:pPr marL="447840" indent="-382680">
              <a:lnSpc>
                <a:spcPct val="100000"/>
              </a:lnSpc>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5698"/>
                </a:solidFill>
                <a:latin typeface="Arial Black"/>
              </a:rPr>
              <a:t>Enjoy.</a:t>
            </a:r>
            <a:endParaRPr b="0" lang="en-US" sz="4400" spc="-1" strike="noStrike">
              <a:solidFill>
                <a:srgbClr val="ffffff"/>
              </a:solidFill>
              <a:latin typeface="Century Gothic"/>
            </a:endParaRPr>
          </a:p>
          <a:p>
            <a:pPr marL="447840" indent="-382680">
              <a:lnSpc>
                <a:spcPct val="100000"/>
              </a:lnSpc>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u="sng">
                <a:solidFill>
                  <a:srgbClr val="17bbfd"/>
                </a:solidFill>
                <a:uFillTx/>
                <a:latin typeface="Arial Black"/>
                <a:hlinkClick r:id="rId2"/>
              </a:rPr>
              <a:t>http://www.youtube.com/watch?v=Jjo5AV6_sHU</a:t>
            </a:r>
            <a:endParaRPr b="0" lang="en-US" sz="4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Title 1" descr=""/>
          <p:cNvPicPr/>
          <p:nvPr/>
        </p:nvPicPr>
        <p:blipFill>
          <a:blip r:embed="rId1"/>
          <a:stretch/>
        </p:blipFill>
        <p:spPr>
          <a:xfrm>
            <a:off x="450720" y="92160"/>
            <a:ext cx="9041040" cy="157788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Arial Black"/>
                <a:hlinkClick r:id="rId2"/>
              </a:rPr>
              <a:t>www.wikipedia.org</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Arial Black"/>
                <a:hlinkClick r:id="rId3"/>
              </a:rPr>
              <a:t>www.greekreligion.org</a:t>
            </a:r>
            <a:r>
              <a:rPr b="0" lang="en-CA" sz="3000" spc="-1" strike="noStrike">
                <a:solidFill>
                  <a:srgbClr val="ff5698"/>
                </a:solidFill>
                <a:latin typeface="Arial Black"/>
              </a:rPr>
              <a:t>  </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17bbfd"/>
                </a:solidFill>
                <a:uFillTx/>
                <a:latin typeface="Arial Black"/>
                <a:hlinkClick r:id="rId4"/>
              </a:rPr>
              <a:t>www.factsmonk.com</a:t>
            </a:r>
            <a:r>
              <a:rPr b="0" lang="en-CA" sz="3000" spc="-1" strike="noStrike">
                <a:solidFill>
                  <a:srgbClr val="ff5698"/>
                </a:solidFill>
                <a:latin typeface="Arial Black"/>
              </a:rPr>
              <a:t>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http://imagecache.artistrising.com/artwork/lrg/2/247/KFU3000A.jpg"/>
          <p:cNvPicPr/>
          <p:nvPr/>
        </p:nvPicPr>
        <p:blipFill>
          <a:blip r:embed="rId1"/>
          <a:stretch/>
        </p:blipFill>
        <p:spPr>
          <a:xfrm>
            <a:off x="5492880" y="3279600"/>
            <a:ext cx="2322360" cy="2322720"/>
          </a:xfrm>
          <a:prstGeom prst="rect">
            <a:avLst/>
          </a:prstGeom>
          <a:ln w="0">
            <a:noFill/>
          </a:ln>
        </p:spPr>
      </p:pic>
      <p:pic>
        <p:nvPicPr>
          <p:cNvPr id="356" name="Title 1" descr=""/>
          <p:cNvPicPr/>
          <p:nvPr/>
        </p:nvPicPr>
        <p:blipFill>
          <a:blip r:embed="rId2"/>
          <a:stretch/>
        </p:blipFill>
        <p:spPr>
          <a:xfrm>
            <a:off x="4821120" y="-371520"/>
            <a:ext cx="4981680" cy="3559320"/>
          </a:xfrm>
          <a:prstGeom prst="rect">
            <a:avLst/>
          </a:prstGeom>
          <a:ln w="0">
            <a:noFill/>
          </a:ln>
        </p:spPr>
      </p:pic>
      <p:sp>
        <p:nvSpPr>
          <p:cNvPr id="357" name="TextBox 3"/>
          <p:cNvSpPr/>
          <p:nvPr/>
        </p:nvSpPr>
        <p:spPr>
          <a:xfrm>
            <a:off x="0" y="0"/>
            <a:ext cx="5357880" cy="65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Zeus </a:t>
            </a:r>
            <a:r>
              <a:rPr b="0" lang="en-CA" sz="1500" spc="-1" strike="noStrike">
                <a:solidFill>
                  <a:srgbClr val="ff5698"/>
                </a:solidFill>
                <a:latin typeface="Arial Black"/>
              </a:rPr>
              <a:t>– The king of the gods. Also thunder, lightning, justice and the sky. </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ra</a:t>
            </a:r>
            <a:r>
              <a:rPr b="0" lang="en-CA" sz="1500" spc="-1" strike="noStrike">
                <a:solidFill>
                  <a:srgbClr val="ff5698"/>
                </a:solidFill>
                <a:latin typeface="Arial Black"/>
              </a:rPr>
              <a:t> – Sister and married to Zeus. Queen of the gods, motherhood and marriag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Poseidon</a:t>
            </a:r>
            <a:r>
              <a:rPr b="0" lang="en-CA" sz="1500" spc="-1" strike="noStrike">
                <a:solidFill>
                  <a:srgbClr val="ff5698"/>
                </a:solidFill>
                <a:latin typeface="Arial Black"/>
              </a:rPr>
              <a:t> – Brother of Zeus. God of the oceans and earthquakes. </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ades </a:t>
            </a:r>
            <a:r>
              <a:rPr b="0" lang="en-CA" sz="1500" spc="-1" strike="noStrike">
                <a:solidFill>
                  <a:srgbClr val="ff5698"/>
                </a:solidFill>
                <a:latin typeface="Arial Black"/>
              </a:rPr>
              <a:t>– Brother of Zeus. God of the underworld and the dead.</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Demeter</a:t>
            </a:r>
            <a:r>
              <a:rPr b="0" lang="en-CA" sz="1500" spc="-1" strike="noStrike">
                <a:solidFill>
                  <a:srgbClr val="ff5698"/>
                </a:solidFill>
                <a:latin typeface="Arial Black"/>
              </a:rPr>
              <a:t> – Sister of Zeus. Goddess of fertility, agriculture, nature and the seasons.</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stia</a:t>
            </a:r>
            <a:r>
              <a:rPr b="0" lang="en-CA" sz="1500" spc="-1" strike="noStrike">
                <a:solidFill>
                  <a:srgbClr val="ff5698"/>
                </a:solidFill>
                <a:latin typeface="Arial Black"/>
              </a:rPr>
              <a:t> – Sister of Zeus. Goddess of hearth and hom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phrodite</a:t>
            </a:r>
            <a:r>
              <a:rPr b="0" lang="en-CA" sz="1500" spc="-1" strike="noStrike">
                <a:solidFill>
                  <a:srgbClr val="ff5698"/>
                </a:solidFill>
                <a:latin typeface="Arial Black"/>
              </a:rPr>
              <a:t> – Daughter of Zeus. Goddess of sexuality, desire, love, lust and beauty.</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pollo</a:t>
            </a:r>
            <a:r>
              <a:rPr b="0" lang="en-CA" sz="1500" spc="-1" strike="noStrike">
                <a:solidFill>
                  <a:srgbClr val="ff5698"/>
                </a:solidFill>
                <a:latin typeface="Arial Black"/>
              </a:rPr>
              <a:t> – Son of Zeus. God of the sun, light, archery, healing, music, poetry and the truth.</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res</a:t>
            </a:r>
            <a:r>
              <a:rPr b="0" lang="en-CA" sz="1500" spc="-1" strike="noStrike">
                <a:solidFill>
                  <a:srgbClr val="ff5698"/>
                </a:solidFill>
                <a:latin typeface="Arial Black"/>
              </a:rPr>
              <a:t> – Son of Zeus. God of war, bloodshed, frenzy and hatred.</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rtemis</a:t>
            </a:r>
            <a:r>
              <a:rPr b="0" lang="en-CA" sz="1500" spc="-1" strike="noStrike">
                <a:solidFill>
                  <a:srgbClr val="ff5698"/>
                </a:solidFill>
                <a:latin typeface="Arial Black"/>
              </a:rPr>
              <a:t> – Daughter of Zeus. Goddess of the hunt, maidens, and the moon.</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Athena </a:t>
            </a:r>
            <a:r>
              <a:rPr b="0" lang="en-CA" sz="1500" spc="-1" strike="noStrike">
                <a:solidFill>
                  <a:srgbClr val="ff5698"/>
                </a:solidFill>
                <a:latin typeface="Arial Black"/>
              </a:rPr>
              <a:t>– Daughter of Zeus. Goddess of wisdom, crafts and strategic battl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phaestus</a:t>
            </a:r>
            <a:r>
              <a:rPr b="0" lang="en-CA" sz="1500" spc="-1" strike="noStrike">
                <a:solidFill>
                  <a:srgbClr val="ff5698"/>
                </a:solidFill>
                <a:latin typeface="Arial Black"/>
              </a:rPr>
              <a:t> – Son of Zeus. Married to Aphrodite. Blacksmith of the gods. God of fire and the forges.</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Black"/>
              </a:rPr>
              <a:t>Hermes</a:t>
            </a:r>
            <a:r>
              <a:rPr b="0" lang="en-CA" sz="1500" spc="-1" strike="noStrike">
                <a:solidFill>
                  <a:srgbClr val="ff5698"/>
                </a:solidFill>
                <a:latin typeface="Arial Black"/>
              </a:rPr>
              <a:t> – Son of Zeus. Messenger of the gods. God of speed, thieves and trade.</a:t>
            </a:r>
            <a:endParaRPr b="0" lang="en-US" sz="15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0720" y="-347760"/>
            <a:ext cx="8967960" cy="232884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Various festivals were held in ancient Greece. Most notable would be the Olympics which were held every twelve years to celebrate the gods.</a:t>
            </a:r>
            <a:endParaRPr b="0" lang="en-US" sz="2300" spc="-1" strike="noStrike">
              <a:solidFill>
                <a:srgbClr val="ffffff"/>
              </a:solidFill>
              <a:latin typeface="Century Gothic"/>
            </a:endParaRPr>
          </a:p>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Ceremonies were held at temples. Temples were dedicated to one or a few gods.</a:t>
            </a:r>
            <a:endParaRPr b="0" lang="en-US" sz="2300" spc="-1" strike="noStrike">
              <a:solidFill>
                <a:srgbClr val="ffffff"/>
              </a:solidFill>
              <a:latin typeface="Century Gothic"/>
            </a:endParaRPr>
          </a:p>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Often sacrifices were made to the gods. They would kill the particular animal and eat its flesh, then burn the offal (internal organs and such) for the gods.</a:t>
            </a:r>
            <a:endParaRPr b="0" lang="en-US" sz="2300" spc="-1" strike="noStrike">
              <a:solidFill>
                <a:srgbClr val="ffffff"/>
              </a:solidFill>
              <a:latin typeface="Century Gothic"/>
            </a:endParaRPr>
          </a:p>
          <a:p>
            <a:pPr marL="447840" indent="-382680">
              <a:lnSpc>
                <a:spcPct val="10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5698"/>
                </a:solidFill>
                <a:latin typeface="Arial Black"/>
              </a:rPr>
              <a:t>Deposits were left for the gods such as various ritualistic items and precious gems and metals.</a:t>
            </a: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450720" y="122400"/>
            <a:ext cx="8674200" cy="1547640"/>
          </a:xfrm>
          <a:prstGeom prst="rect">
            <a:avLst/>
          </a:prstGeom>
          <a:ln w="0">
            <a:noFill/>
          </a:ln>
        </p:spPr>
      </p:pic>
      <p:sp>
        <p:nvSpPr>
          <p:cNvPr id="361" name=""/>
          <p:cNvSpPr txBox="1"/>
          <p:nvPr/>
        </p:nvSpPr>
        <p:spPr>
          <a:xfrm>
            <a:off x="357120" y="1928880"/>
            <a:ext cx="8229600" cy="4572000"/>
          </a:xfrm>
          <a:prstGeom prst="rect">
            <a:avLst/>
          </a:prstGeom>
          <a:noFill/>
          <a:ln w="0">
            <a:noFill/>
          </a:ln>
        </p:spPr>
        <p:txBody>
          <a:bodyPr lIns="90000" rIns="90000" tIns="46800" bIns="46800" anchor="t">
            <a:normAutofit/>
          </a:bodyPr>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In the time of the Olympian gods there were few people involved in the teaching of their religion.</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There were oracles who were young woman who were said to have the power to foresee future events.</a:t>
            </a:r>
            <a:endParaRPr b="0" lang="en-US" sz="2800" spc="-1" strike="noStrike">
              <a:solidFill>
                <a:srgbClr val="ffffff"/>
              </a:solidFill>
              <a:latin typeface="Century Gothic"/>
            </a:endParaRPr>
          </a:p>
          <a:p>
            <a:pPr marL="447840" indent="-382680">
              <a:lnSpc>
                <a:spcPct val="10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The reasoning for a lack of religious figures is because the people believed the gods to be their true ruler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0720" y="262080"/>
            <a:ext cx="8485200" cy="1407960"/>
          </a:xfrm>
          <a:prstGeom prst="rect">
            <a:avLst/>
          </a:prstGeom>
          <a:ln w="0">
            <a:noFill/>
          </a:ln>
        </p:spPr>
      </p:pic>
      <p:sp>
        <p:nvSpPr>
          <p:cNvPr id="36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 women of ancient Greece played a particularly small role. The majority received little to no education at all.</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y were married at a young age of about fifteen to a man a few years older.</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Most of their lives were spent in their husbands homes cleaning and tending to the families needs.</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However the women of Sparta lived completely different lives to that of the rest of ancient Greece.</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y were educated and valued because they birthed what would eventually be a great Spartan warrior.</a:t>
            </a:r>
            <a:endParaRPr b="0" lang="en-US" sz="2000" spc="-1" strike="noStrike">
              <a:solidFill>
                <a:srgbClr val="ffffff"/>
              </a:solidFill>
              <a:latin typeface="Century Gothic"/>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5698"/>
                </a:solidFill>
                <a:latin typeface="Arial Black"/>
              </a:rPr>
              <a:t>They often owned land of their own.</a:t>
            </a:r>
            <a:endParaRPr b="0" lang="en-US" sz="2000" spc="-1" strike="noStrike">
              <a:solidFill>
                <a:srgbClr val="ffffff"/>
              </a:solidFill>
              <a:latin typeface="Century Gothic"/>
            </a:endParaRPr>
          </a:p>
          <a:p>
            <a:pPr marL="4478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549360" y="-182520"/>
            <a:ext cx="8673840" cy="1517760"/>
          </a:xfrm>
          <a:prstGeom prst="rect">
            <a:avLst/>
          </a:prstGeom>
          <a:ln w="0">
            <a:noFill/>
          </a:ln>
        </p:spPr>
      </p:pic>
      <p:pic>
        <p:nvPicPr>
          <p:cNvPr id="365" name="Picture 2" descr="http://www.freewebs.com/greek-portal/ancientGreece.jpg"/>
          <p:cNvPicPr/>
          <p:nvPr/>
        </p:nvPicPr>
        <p:blipFill>
          <a:blip r:embed="rId2"/>
          <a:stretch/>
        </p:blipFill>
        <p:spPr>
          <a:xfrm>
            <a:off x="1566720" y="1511280"/>
            <a:ext cx="5919840" cy="528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Title 1" descr=""/>
          <p:cNvPicPr/>
          <p:nvPr/>
        </p:nvPicPr>
        <p:blipFill>
          <a:blip r:embed="rId1"/>
          <a:stretch/>
        </p:blipFill>
        <p:spPr>
          <a:xfrm>
            <a:off x="450720" y="-19080"/>
            <a:ext cx="8778960" cy="1689120"/>
          </a:xfrm>
          <a:prstGeom prst="rect">
            <a:avLst/>
          </a:prstGeom>
          <a:ln w="0">
            <a:noFill/>
          </a:ln>
        </p:spPr>
      </p:pic>
      <p:sp>
        <p:nvSpPr>
          <p:cNvPr id="36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Polytheism is believed to have been created as far back as 3000 BC</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Although it is impossible to establish a founder of this religion, it is easy to see how it came to be</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5698"/>
                </a:solidFill>
                <a:latin typeface="Arial Black"/>
              </a:rPr>
              <a:t>Seasons, weather conditions, natural phenomenon's, geographical anomalies, war and the fear of death inspired the creation of all mighty beings who became the source of these occurrence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450720" y="92160"/>
            <a:ext cx="8712360" cy="1577880"/>
          </a:xfrm>
          <a:prstGeom prst="rect">
            <a:avLst/>
          </a:prstGeom>
          <a:ln w="0">
            <a:noFill/>
          </a:ln>
        </p:spPr>
      </p:pic>
      <p:sp>
        <p:nvSpPr>
          <p:cNvPr id="36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388c"/>
                </a:solidFill>
                <a:latin typeface="Arial Black"/>
              </a:rPr>
              <a:t>Polytheism is the worship of more than one God</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388c"/>
                </a:solidFill>
                <a:latin typeface="Arial Black"/>
              </a:rPr>
              <a:t>This worship is thought to have originated through Hinduism</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388c"/>
                </a:solidFill>
                <a:latin typeface="Arial Black"/>
              </a:rPr>
              <a:t>These beliefs became the foundation of Greek society, later the Roman Empire and eventually a great portion of the modern World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21:11:52Z</dcterms:created>
  <dc:creator>Brent</dc:creator>
  <dc:description/>
  <dc:language>en-US</dc:language>
  <cp:lastModifiedBy>Brent</cp:lastModifiedBy>
  <dcterms:modified xsi:type="dcterms:W3CDTF">2009-11-10T00:35:42Z</dcterms:modified>
  <cp:revision>26</cp:revision>
  <dc:subject/>
  <dc:title>Polytheisms</dc:title>
</cp:coreProperties>
</file>